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297-CC62-4AD7-9EFE-0B6E6034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F0A-93F5-4120-8130-5FB63512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BCA-6407-41F8-8F29-49FD76C9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7D1-AC00-45A4-816F-FB2FE0B7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8D53-6AC9-4A69-9D55-52529274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CA2C-45B7-4476-AFF4-60FF858F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750-9725-42AD-B002-DDA38D18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0DAB-299F-4D4A-B899-72CD056F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6139-34E5-4D9A-BC7F-2F91882C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C16C-1988-460F-83EB-10E042E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614-597A-489A-8B00-2DC239F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56A-C0AA-4D58-8643-A93C095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82B9-2D37-46A4-9A8D-C492C2E5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ED5-B732-4FD1-BE50-F080678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476A-546B-48EA-B707-891A8998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1549-3471-459A-BFA9-2AB9F359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21D-4FAA-4B83-8339-487A0DFC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BA7-6998-4931-89B8-79990A45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32F-E8CF-469D-91FF-D7AF49D1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D47-301E-4B51-A98F-64842C00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58E-27DF-40A4-B110-3FECEB2B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962-1189-4E03-8FFE-8802FB1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E7B-82D8-463C-96DC-FED4A8AE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4EA-939E-4794-94D6-0841714B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F6CE-101B-4289-9996-DD00A38BAB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B7E4-4672-45E2-9A7F-90F679A60C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Me llamo __________</a:t>
            </a: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Clase 6NH (601)</a:t>
            </a:r>
            <a:br>
              <a:rPr sz="4000"/>
            </a:br>
            <a:r>
              <a:rPr b="0" lang="en-US" sz="4000" spc="-1" strike="noStrike">
                <a:solidFill>
                  <a:srgbClr val="999966"/>
                </a:solidFill>
                <a:latin typeface="Garamond"/>
              </a:rPr>
              <a:t>La fecha es el 8 de octubre del 2012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7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ómo son los alumnos en tu escuel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PIA y escribe las oraciones en PLUR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Él es america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muchacha es boni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colegio es moder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curso es fác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ustantiv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ntivo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144792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una persona, animal, lugar o cosa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(a person, animal, place or 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5360" y="2362320"/>
            <a:ext cx="891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Todos los sustantivos tienen GENERO y NUMERO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(all nouns have </a:t>
            </a:r>
            <a:r>
              <a:rPr b="0" i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gender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number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69800" y="3459240"/>
            <a:ext cx="42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Masculino (-O, -L, -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98600" y="4297320"/>
            <a:ext cx="45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Femenino (-A, -D, -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800" y="49831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me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6160" y="34290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080" y="510552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ngula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6400" y="582120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ural (2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Garamond"/>
              </a:rPr>
              <a:t>Artículos  Definid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son los artículos definidos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definite articles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Articulo definido significa “The” en ing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Definite articles mean “the” in English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os artículos definidos se usan cuando se refiere a una persona o cosa EN ESPECIFICO.</a:t>
            </a:r>
            <a:r>
              <a:rPr b="1" i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The definite articles are used when we refer to a SPECIFIC person or t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uáles son los artículos definid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n ingles solo hay 1 articulo definido “Th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In English there is only 1 definite article “the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os artículos definidos son: el, la, los, l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s-ES_tradnl" sz="2400" spc="-1" strike="noStrike">
                <a:solidFill>
                  <a:srgbClr val="336600"/>
                </a:solidFill>
                <a:latin typeface="Verdana"/>
              </a:rPr>
              <a:t>(The definite articles in Spanish are: el, la, los, l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rtículos definido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se usan con sustantivos masculinos.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the definite articles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nd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re used for masculine nou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libr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perr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jug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carr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plat</a:t>
            </a:r>
            <a:r>
              <a:rPr b="0" i="1" lang="es-ES_tradnl" sz="2800" spc="-1" strike="noStrike">
                <a:solidFill>
                  <a:srgbClr val="0000ff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rtículos definido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se usan con sustantivos femeninos.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the definite articles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nd </a:t>
            </a:r>
            <a:r>
              <a:rPr b="1" i="1" lang="es-ES_tradnl" sz="2800" spc="-1" strike="noStrike">
                <a:solidFill>
                  <a:srgbClr val="336600"/>
                </a:solidFill>
                <a:latin typeface="Verdana"/>
              </a:rPr>
              <a:t>las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 are used for feminine noun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mochil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got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ros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biciclet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comid</a:t>
            </a:r>
            <a:r>
              <a:rPr b="0" i="1" lang="es-ES_tradnl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Adjetivo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djetivos describen los sustantivos.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Adjectives describe nou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adjetivos siempre deben de acordar en gener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(m,f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y numer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(s,p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el sustantivo que describe o modifica. </a:t>
            </a:r>
            <a:r>
              <a:rPr b="0" i="1" lang="es-ES_tradnl" sz="2800" spc="-1" strike="noStrike">
                <a:solidFill>
                  <a:srgbClr val="336600"/>
                </a:solidFill>
                <a:latin typeface="Verdana"/>
              </a:rPr>
              <a:t>(Adjectives must always agree in gender and number to the noun it describes or modifie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sincer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masculino, singul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l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sincer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os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masculino, plur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l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cer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femenino, singul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l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amig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 sincer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as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(femenino, plur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adjetivos que terminan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 en consonante pueden describir un susantivo femenino o masculi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800" spc="-1" strike="noStrike">
                <a:solidFill>
                  <a:srgbClr val="336600"/>
                </a:solidFill>
                <a:latin typeface="Verdana"/>
              </a:rPr>
              <a:t>(Adjectives that end in </a:t>
            </a:r>
            <a:r>
              <a:rPr b="1" i="1" lang="en-US" sz="2800" spc="-1" strike="noStrike">
                <a:solidFill>
                  <a:srgbClr val="336600"/>
                </a:solidFill>
                <a:latin typeface="Verdana"/>
              </a:rPr>
              <a:t>–e</a:t>
            </a:r>
            <a:r>
              <a:rPr b="0" i="1" lang="en-US" sz="2800" spc="-1" strike="noStrike">
                <a:solidFill>
                  <a:srgbClr val="336600"/>
                </a:solidFill>
                <a:latin typeface="Verdana"/>
              </a:rPr>
              <a:t> or in a consonant can describe a feminine or masculine nou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cur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nteresan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masculino, singul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materi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nteresan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femenino, singul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ur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difici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masculino, plu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signatur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ici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femenino, plu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studia la siguiente tabl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240" cy="4529520"/>
        </p:xfrm>
        <a:graphic>
          <a:graphicData uri="http://schemas.openxmlformats.org/drawingml/2006/table">
            <a:tbl>
              <a:tblPr/>
              <a:tblGrid>
                <a:gridCol w="2742840"/>
                <a:gridCol w="2743200"/>
                <a:gridCol w="2743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RTICULOS DEFI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CUL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E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962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282200" y="42814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1360" y="52722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Verdana"/>
              </a:rPr>
              <a:t>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6024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77520" y="5195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Verdana"/>
              </a:rPr>
              <a:t>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7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a p. R3 y R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0:28:56Z</dcterms:created>
  <dc:creator>Helen Zumaeta</dc:creator>
  <dc:description/>
  <dc:language>en-US</dc:language>
  <cp:lastModifiedBy>Helen Zumaeta</cp:lastModifiedBy>
  <dcterms:modified xsi:type="dcterms:W3CDTF">2012-10-02T21:22:16Z</dcterms:modified>
  <cp:revision>13</cp:revision>
  <dc:subject/>
  <dc:title>Me llamo __________ Clase 6NH La fecha es el 23 de enero del 2012</dc:title>
</cp:coreProperties>
</file>